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01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020AA-ECC3-47D9-B4A5-1F8AD6EB78AD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3D94B-89AC-418A-9EA2-AB32EC19E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B66D6-566A-460B-8023-3AF7FAFD4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17C0A3-B028-430B-865B-1446C3A48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22D343-28C4-4EA6-AFF6-CD2AB8B62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8A00B3-87BA-4CEE-A0DD-4FC8F3861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DCD70A-D1C9-4609-8940-902D15FEF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F5DCC4-B10D-4335-B907-2A04F75EC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5D669D-7845-4218-BEE2-D064FCF54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D9B512-4392-4408-BE14-FE8DF4421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E32129-A8E9-459A-9632-7674EFB65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D62BD6-72A1-4BB4-AC9E-29DB16DE2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8964E2-6139-466C-92DF-1E397BBA7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4C019-902A-40B9-90B8-F888B571F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CCEC0E-9D87-4CA2-A171-F3D319276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DD7E6D-D8BD-4A3A-AAEB-EE4CB5E15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C87116-022A-403C-8925-746CEBDBF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8D4A73-AD4C-49B4-A280-7133A3291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9D299B-A2B1-48F3-AC58-F093C40C1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C6A902-269A-456B-8055-3388470F8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682312-23DD-4980-B026-96BF3304F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A072B1-5833-41BE-8F47-3D5B3EA9E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EB6C42-175D-4BEE-B96F-56CF37E31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0CD035-928F-46C5-8A09-0E55523AF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AD7E1-7581-4E69-BA8E-F5DB3C347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45A12A-6A87-419E-9014-F9C6C7F57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3D50A2-682E-4B93-BC2B-980A7A0A3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83BA2E-2D74-4686-8F03-D60EED3D6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CD8E59-C75C-4693-89C9-EB253BC5E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8D6574-8308-4055-BD74-631E227BD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A24ACE-767E-4E17-ADCC-B54D5CE6C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EFDD87-E450-48A2-B731-98E755873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9C641D-4E4B-4D24-B621-4C0155EC9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C585E4-7D04-4883-B19F-C1BA1B46C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B34393-EC76-456D-B1A0-35B8648E5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FE4F8-A266-4CEE-953A-590DC6A70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9BA687-2CAB-498D-89E4-C3DBC5497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98A698-4A74-43FB-9BD7-25D04A314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072BE3-1ACA-4235-98D4-B5CE792D3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808709-008F-4E0D-8716-604813AF6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A3DF18-D6D3-4BC1-A842-76BDF0308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4CC06B-577A-4F90-9A7C-CFEBAEE3E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26B873-E44F-40C8-9B21-60801AD59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8CACEF-8F59-43B4-A41C-B4F9D6B6D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A46F58-C526-4B4B-A6EA-6D4523FB1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A29FFD-CBD7-4622-9792-0BB85BE8F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2DB32-1C59-4E81-8CEA-4C58222F0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EE5AEF-98F8-4A05-B80A-4C696E83A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F39E9A-B209-4F88-AE30-554CC560F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53D386-5D67-4BDF-9423-5C83C2C4D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434658-9D86-41D3-9197-4C6FDB253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2B4696-714F-4357-BF3C-4461E5136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9454058-9E76-45DC-874E-69DFA3A14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21C1423-CE85-47F2-8DD0-17ED452D8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848A176-9593-448A-ACF9-A56842FEF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2D49A1D-78AB-4F97-BD40-1B7A1DC79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C85CBB7-DCFB-4C83-AC8A-7259F729A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37A23-4E1D-47F1-9B3A-43958F018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1DC1903-6640-4838-A3DF-97F6331D5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8F55CC1-C2EA-4DB5-BD58-4D0AE5D87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B9C2D9D-6C88-4F34-ABEF-15E4F599A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4146851-CF3D-4C41-AA7C-5F4ABA300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095A788-0A43-46B3-A2C1-BBAC5BD26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0080B31-3B2D-48A4-BC25-186572AEE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27127D3-3A95-4C92-B49D-76AF4A89B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65948-06C6-44C8-9833-BF668DF62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E5D79-61BA-4F4E-8CEB-BA08F8C6A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5E9DF-2E02-4DD6-9B21-6D941DCF9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34CCA-87CB-4D6D-B110-DCC7360BA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26B04-3A93-46EE-8DCA-CA004CBE9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4C714-A2C9-49DC-9FA8-3C9AC4392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155D6-40F0-448F-AACA-6A74A2341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83991-64BF-4B29-953C-7D6879F21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780F9-84D3-467C-884D-0F2397514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BE5BB-80AD-4D69-BC26-CE47DE28D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1B6804-3D2D-48E8-80CE-2F79EFC6B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59B947-DF19-4225-ADE5-6C95AAE94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AABC71-93DD-4975-A8D9-8A3EAF154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5E51E5-EB00-4502-9C40-274F31730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E5BEE4-B23F-48F6-916A-8490DAAED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A2A7A-9B01-4D2C-80B3-D012F29D4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0FC8D5-B5BE-43E5-ABD7-DAE618CBD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78A98B-FB62-40DE-B1F7-0B9036623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995230-1B0E-4769-941D-93597F9EE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467F57-AC1A-45C6-801C-13156D95A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FCAAA8-5633-4D38-B24B-1A967CD94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E46633-AA88-47B1-8EE0-61066356A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CDA358-8262-4B15-B5B7-497697A8C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F1F982-48C9-4C2C-AEF9-9AF1EC5F6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5664AE-6E9C-4828-9F3E-1167619C9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9849CE-6C18-47C6-85D8-E343487CE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F0519-DA26-44E2-B62B-32686BBD0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DE9528-7A95-4807-A556-D07310AA3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F98580-B563-4EBD-9C7F-64F752A91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2A34D1-298A-432F-A774-1902C8801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4E3635-B6D3-4E14-8FC1-6BF5319CF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BF3ED1-C63E-44DD-8ED8-1354096ED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DE8781-2E62-4DAD-997C-919AEB337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1195ED-F5B7-425E-B257-F4B19E836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BD9356-A771-4545-B95E-E68DA2AC2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4C2D8F-3110-49A8-91E2-25C626EA4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1F3ABC-A2F6-40E9-92BA-0E046E04B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39AD2-A660-407E-94F8-E4CCA2731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9C8591-84F3-42F7-9343-C7DB6B6D4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CA34CA-3E24-411D-937D-E7D3E29A5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3402B2-D27C-43A1-AC59-F3E5D17CC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61A86F-BB55-4393-933D-BDB1EF68E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971F32-136A-4F84-8C1E-8BE394283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C624DB-DFAA-4419-B11A-A782FFC52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E65D00-9AB1-4FD7-A168-6A390F9FA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1555EB-D9CB-408B-8F90-E4775A366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C62C88-53BD-47BA-A8A3-9D0BA7820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F65025-E8E3-44EF-9849-C5573F332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F2579-AD08-421F-8A0A-59D49A8EF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A04256-2670-4A43-970A-C7507D13C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074F479-A031-426A-8579-D3B658A74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9395FF2-DA04-4BFB-8376-F57442391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BDFA07B-20AC-47C8-9A5D-09C16858E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194706F-93CD-402D-8B74-38EF60A93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521275C-97A7-4814-901D-241D49179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0FF91B4-2694-408C-93E7-7A8FD1ACC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11B1191-A952-4971-A9D7-C88107660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8FE3FD3-6FD0-42B4-87EB-80C456526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D6D2DEF-F05C-469E-82B3-654A4E9F4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93DED-C348-49C8-8335-637F8C645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AF1195E-E472-4083-9155-FF104ECDD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8066A9F-8007-4FC2-ADE6-1597AFF87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3EFA5FE-DBDD-4481-B268-2CB611458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0A6B7A-9952-441B-B19B-69F70BCBC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B99BF7-CA98-4A61-9420-1F20C1A3E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819BAC-E873-4039-AEDC-FF0DE1E0C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19EBCB-8A8E-492C-AFCF-0E7209013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A3CF56-BA2B-4CD9-995A-4A3C54C5C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D48AC8-1B0D-4FC4-9D2C-BF66A4A49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E1CD01-FB08-4879-8292-A5522C67D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61BA2-C7F8-4C1B-B0C2-2AD5B0705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A73D45-E444-40D3-8F5A-A4B6AF2AB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0008F4-E502-4974-8A15-5ABCD2AFE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8979C9-DE69-4729-BDEB-65699486A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31EA0A-952B-4A8F-A4A9-400350393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0D1233-CA24-4BB6-8008-BAD94E99D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929860-C652-4693-AAE8-E446E1E88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9DE094-CCD5-48D5-B12E-7A8958A98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9C6368-3211-43DE-9E3F-9104AFBE3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4AF625-B7B3-4379-8730-2E0A67E90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A24C28-F593-4143-9942-5E48FDE0C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86EEC-8D05-4747-933A-70D534534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97B099-ACE4-4902-9673-02EFC3C33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EF6088-03CC-4906-BE2C-CFD51FF00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A149CC-AF7F-4A34-B40B-4ECDDDE06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C6D3BF-8566-486D-B6D8-F1D392A8B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FE7093-30CD-47D8-A10F-E0D7DADEA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BC216D-CDAF-43AE-977C-B8D0DF363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D081B3-E979-46C8-9E0A-4D2BC0438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4A900F-1891-46AD-92E1-93188945A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7458A3-719A-4247-B6CB-5F7AF83A9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457C6F-A4A1-41D3-85BD-94F53A434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38611-7FF5-4D5E-80BB-01355DDF180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90459-D364-40EF-BDFE-159DC01CCBD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003A5-4A38-420A-A21F-DD29702B2ED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0CB99-35E2-43B9-B3DD-4C456100343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DB515-93A7-441B-BA88-68257523321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A12FB-7B1F-40B3-AD95-F11C558227B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974E7-B321-4556-9FF2-92975EF6D48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5C997-DCE1-4018-B23F-48167A6A2CD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B9606-0138-48E9-A3B4-E339FBEC6AF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8EA61-7125-4D54-9B82-E92DA60B7C5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47C9F-217F-4E75-A3B9-29ABD54985E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71194-140E-456D-9999-133DDDD65F9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E54DE-92A6-44D7-86B2-73DEA10E4F2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12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12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31.png"/><Relationship Id="rId6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768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769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2060"/>
              </a:solidFill>
              <a:ln w="9360">
                <a:solidFill>
                  <a:srgbClr val="a04da3"/>
                </a:solidFill>
                <a:miter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002060"/>
              </a:solidFill>
              <a:ln w="0">
                <a:noFill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1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772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4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83a7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5" name="직사각형 5" descr=""/>
          <p:cNvPicPr/>
          <p:nvPr/>
        </p:nvPicPr>
        <p:blipFill>
          <a:blip r:embed="rId2"/>
          <a:stretch/>
        </p:blipFill>
        <p:spPr>
          <a:xfrm>
            <a:off x="401760" y="2401920"/>
            <a:ext cx="2322360" cy="1054080"/>
          </a:xfrm>
          <a:prstGeom prst="rect">
            <a:avLst/>
          </a:prstGeom>
          <a:ln w="0">
            <a:noFill/>
          </a:ln>
        </p:spPr>
      </p:pic>
      <p:pic>
        <p:nvPicPr>
          <p:cNvPr id="776" name="직사각형 6" descr=""/>
          <p:cNvPicPr/>
          <p:nvPr/>
        </p:nvPicPr>
        <p:blipFill>
          <a:blip r:embed="rId3"/>
          <a:stretch/>
        </p:blipFill>
        <p:spPr>
          <a:xfrm>
            <a:off x="487440" y="3316320"/>
            <a:ext cx="3133800" cy="1719360"/>
          </a:xfrm>
          <a:prstGeom prst="rect">
            <a:avLst/>
          </a:prstGeom>
          <a:ln w="0">
            <a:noFill/>
          </a:ln>
        </p:spPr>
      </p:pic>
      <p:sp>
        <p:nvSpPr>
          <p:cNvPr id="777" name="직사각형 45"/>
          <p:cNvSpPr/>
          <p:nvPr/>
        </p:nvSpPr>
        <p:spPr>
          <a:xfrm>
            <a:off x="4861800" y="2344680"/>
            <a:ext cx="158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표준화 검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직사각형 45"/>
          <p:cNvSpPr/>
          <p:nvPr/>
        </p:nvSpPr>
        <p:spPr>
          <a:xfrm>
            <a:off x="5343480" y="3267000"/>
            <a:ext cx="291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표준화 검사의 이해 및 해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직사각형 45"/>
          <p:cNvSpPr/>
          <p:nvPr/>
        </p:nvSpPr>
        <p:spPr>
          <a:xfrm>
            <a:off x="5256360" y="4187880"/>
            <a:ext cx="265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표준화 검사에 대한 쟁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1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73726-969F-44D4-8EC3-1E97B6C5937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2" name="TextBox 9" descr=""/>
          <p:cNvPicPr/>
          <p:nvPr/>
        </p:nvPicPr>
        <p:blipFill>
          <a:blip r:embed="rId1"/>
          <a:stretch/>
        </p:blipFill>
        <p:spPr>
          <a:xfrm>
            <a:off x="5894280" y="506520"/>
            <a:ext cx="2884680" cy="590400"/>
          </a:xfrm>
          <a:prstGeom prst="rect">
            <a:avLst/>
          </a:prstGeom>
          <a:ln w="0">
            <a:noFill/>
          </a:ln>
        </p:spPr>
      </p:pic>
      <p:sp>
        <p:nvSpPr>
          <p:cNvPr id="783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23C8C-DE6D-4CA2-A09D-EED6BAFD7453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4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785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786" name="직사각형 14"/>
              <p:cNvSpPr/>
              <p:nvPr/>
            </p:nvSpPr>
            <p:spPr>
              <a:xfrm>
                <a:off x="1051920" y="1386000"/>
                <a:ext cx="3162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표준화 검사란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8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9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3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4" name="그룹 43"/>
          <p:cNvGrpSpPr/>
          <p:nvPr/>
        </p:nvGrpSpPr>
        <p:grpSpPr>
          <a:xfrm>
            <a:off x="571680" y="1876320"/>
            <a:ext cx="8072280" cy="3052800"/>
            <a:chOff x="571680" y="1876320"/>
            <a:chExt cx="8072280" cy="3052800"/>
          </a:xfrm>
        </p:grpSpPr>
        <p:pic>
          <p:nvPicPr>
            <p:cNvPr id="795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30528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796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797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8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9" name="직사각형 19"/>
            <p:cNvSpPr/>
            <p:nvPr/>
          </p:nvSpPr>
          <p:spPr>
            <a:xfrm>
              <a:off x="928800" y="1991880"/>
              <a:ext cx="7669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일한 조건에서 많은 수의 학생들을 대상으로 시행되고 동일한 절차에 따라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채점되는 평가도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0" name="직사각형 16"/>
          <p:cNvSpPr/>
          <p:nvPr/>
        </p:nvSpPr>
        <p:spPr>
          <a:xfrm>
            <a:off x="928800" y="2994120"/>
            <a:ext cx="76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규준집단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대표성을 띠는 개인들의 집단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이러한 개인들의 표준화 점수를 가지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가 전국적 규준을 구성함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1" name="타원 20"/>
          <p:cNvGrpSpPr/>
          <p:nvPr/>
        </p:nvGrpSpPr>
        <p:grpSpPr>
          <a:xfrm>
            <a:off x="835200" y="3170160"/>
            <a:ext cx="225360" cy="225360"/>
            <a:chOff x="835200" y="3170160"/>
            <a:chExt cx="225360" cy="225360"/>
          </a:xfrm>
        </p:grpSpPr>
        <p:pic>
          <p:nvPicPr>
            <p:cNvPr id="802" name="타원 20" descr=""/>
            <p:cNvPicPr/>
            <p:nvPr/>
          </p:nvPicPr>
          <p:blipFill>
            <a:blip r:embed="rId5"/>
            <a:stretch/>
          </p:blipFill>
          <p:spPr>
            <a:xfrm>
              <a:off x="835200" y="317016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3" name=""/>
            <p:cNvSpPr/>
            <p:nvPr/>
          </p:nvSpPr>
          <p:spPr>
            <a:xfrm rot="10800000">
              <a:off x="915840" y="322704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4" name="직사각형 21"/>
          <p:cNvSpPr/>
          <p:nvPr/>
        </p:nvSpPr>
        <p:spPr>
          <a:xfrm>
            <a:off x="928800" y="399240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전국규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전국에서 선발된 대표 학생들이 표준화 검사에서 획득한 점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5" name="타원 22"/>
          <p:cNvGrpSpPr/>
          <p:nvPr/>
        </p:nvGrpSpPr>
        <p:grpSpPr>
          <a:xfrm>
            <a:off x="835200" y="4170240"/>
            <a:ext cx="225360" cy="219240"/>
            <a:chOff x="835200" y="4170240"/>
            <a:chExt cx="225360" cy="219240"/>
          </a:xfrm>
        </p:grpSpPr>
        <p:pic>
          <p:nvPicPr>
            <p:cNvPr id="806" name="타원 22" descr=""/>
            <p:cNvPicPr/>
            <p:nvPr/>
          </p:nvPicPr>
          <p:blipFill>
            <a:blip r:embed="rId6"/>
            <a:stretch/>
          </p:blipFill>
          <p:spPr>
            <a:xfrm>
              <a:off x="835200" y="4170240"/>
              <a:ext cx="225360" cy="21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7" name=""/>
            <p:cNvSpPr/>
            <p:nvPr/>
          </p:nvSpPr>
          <p:spPr>
            <a:xfrm rot="10800000">
              <a:off x="915840" y="422712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8" name="TextBox 9" descr=""/>
          <p:cNvPicPr/>
          <p:nvPr/>
        </p:nvPicPr>
        <p:blipFill>
          <a:blip r:embed="rId1"/>
          <a:stretch/>
        </p:blipFill>
        <p:spPr>
          <a:xfrm>
            <a:off x="6029280" y="506520"/>
            <a:ext cx="2870280" cy="590400"/>
          </a:xfrm>
          <a:prstGeom prst="rect">
            <a:avLst/>
          </a:prstGeom>
          <a:ln w="0">
            <a:noFill/>
          </a:ln>
        </p:spPr>
      </p:pic>
      <p:sp>
        <p:nvSpPr>
          <p:cNvPr id="809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A63A9-490C-4A9B-85E1-0ECF21E37937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0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11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12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표준화 검사의 기능 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1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1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17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19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0" name="그룹 43"/>
          <p:cNvGrpSpPr/>
          <p:nvPr/>
        </p:nvGrpSpPr>
        <p:grpSpPr>
          <a:xfrm>
            <a:off x="571680" y="1876320"/>
            <a:ext cx="8072280" cy="3267360"/>
            <a:chOff x="571680" y="1876320"/>
            <a:chExt cx="8072280" cy="3267360"/>
          </a:xfrm>
        </p:grpSpPr>
        <p:pic>
          <p:nvPicPr>
            <p:cNvPr id="821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32673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22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823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4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5" name="직사각형 19"/>
            <p:cNvSpPr/>
            <p:nvPr/>
          </p:nvSpPr>
          <p:spPr>
            <a:xfrm>
              <a:off x="928800" y="19918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 평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진척에 대한 객관적인 정보제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6" name="직사각형 16"/>
          <p:cNvSpPr/>
          <p:nvPr/>
        </p:nvSpPr>
        <p:spPr>
          <a:xfrm>
            <a:off x="928800" y="257184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진단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장단점 진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7" name="타원 20"/>
          <p:cNvGrpSpPr/>
          <p:nvPr/>
        </p:nvGrpSpPr>
        <p:grpSpPr>
          <a:xfrm>
            <a:off x="835200" y="2743200"/>
            <a:ext cx="225360" cy="225360"/>
            <a:chOff x="835200" y="2743200"/>
            <a:chExt cx="225360" cy="225360"/>
          </a:xfrm>
        </p:grpSpPr>
        <p:pic>
          <p:nvPicPr>
            <p:cNvPr id="828" name="타원 20" descr=""/>
            <p:cNvPicPr/>
            <p:nvPr/>
          </p:nvPicPr>
          <p:blipFill>
            <a:blip r:embed="rId5"/>
            <a:stretch/>
          </p:blipFill>
          <p:spPr>
            <a:xfrm>
              <a:off x="835200" y="274320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9" name=""/>
            <p:cNvSpPr/>
            <p:nvPr/>
          </p:nvSpPr>
          <p:spPr>
            <a:xfrm rot="10800000">
              <a:off x="915840" y="279828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0" name="직사각형 21"/>
          <p:cNvSpPr/>
          <p:nvPr/>
        </p:nvSpPr>
        <p:spPr>
          <a:xfrm>
            <a:off x="928800" y="371484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프로그램 평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수 프로그램에 대한 정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1" name="타원 22"/>
          <p:cNvGrpSpPr/>
          <p:nvPr/>
        </p:nvGrpSpPr>
        <p:grpSpPr>
          <a:xfrm>
            <a:off x="858960" y="3889440"/>
            <a:ext cx="226800" cy="225360"/>
            <a:chOff x="858960" y="3889440"/>
            <a:chExt cx="226800" cy="225360"/>
          </a:xfrm>
        </p:grpSpPr>
        <p:pic>
          <p:nvPicPr>
            <p:cNvPr id="832" name="타원 22" descr=""/>
            <p:cNvPicPr/>
            <p:nvPr/>
          </p:nvPicPr>
          <p:blipFill>
            <a:blip r:embed="rId6"/>
            <a:stretch/>
          </p:blipFill>
          <p:spPr>
            <a:xfrm>
              <a:off x="858960" y="388944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3" name=""/>
            <p:cNvSpPr/>
            <p:nvPr/>
          </p:nvSpPr>
          <p:spPr>
            <a:xfrm rot="10800000">
              <a:off x="942840" y="394128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4" name="직사각형 23"/>
          <p:cNvSpPr/>
          <p:nvPr/>
        </p:nvSpPr>
        <p:spPr>
          <a:xfrm>
            <a:off x="928800" y="313524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선발과 배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별한 목적이 수업에 선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5" name="타원 25"/>
          <p:cNvGrpSpPr/>
          <p:nvPr/>
        </p:nvGrpSpPr>
        <p:grpSpPr>
          <a:xfrm>
            <a:off x="835200" y="3316320"/>
            <a:ext cx="225360" cy="225360"/>
            <a:chOff x="835200" y="3316320"/>
            <a:chExt cx="225360" cy="225360"/>
          </a:xfrm>
        </p:grpSpPr>
        <p:pic>
          <p:nvPicPr>
            <p:cNvPr id="836" name="타원 25" descr=""/>
            <p:cNvPicPr/>
            <p:nvPr/>
          </p:nvPicPr>
          <p:blipFill>
            <a:blip r:embed="rId7"/>
            <a:stretch/>
          </p:blipFill>
          <p:spPr>
            <a:xfrm>
              <a:off x="835200" y="331632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7" name=""/>
            <p:cNvSpPr/>
            <p:nvPr/>
          </p:nvSpPr>
          <p:spPr>
            <a:xfrm rot="10800000">
              <a:off x="915840" y="336996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8" name="직사각형 26"/>
          <p:cNvSpPr/>
          <p:nvPr/>
        </p:nvSpPr>
        <p:spPr>
          <a:xfrm>
            <a:off x="928800" y="427824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생 성적에 대한 책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다른 지역의 학교들의 상대적인 수행에 대한 정보제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9" name="타원 27"/>
          <p:cNvGrpSpPr/>
          <p:nvPr/>
        </p:nvGrpSpPr>
        <p:grpSpPr>
          <a:xfrm>
            <a:off x="858960" y="4456080"/>
            <a:ext cx="226800" cy="225360"/>
            <a:chOff x="858960" y="4456080"/>
            <a:chExt cx="226800" cy="225360"/>
          </a:xfrm>
        </p:grpSpPr>
        <p:pic>
          <p:nvPicPr>
            <p:cNvPr id="840" name="타원 27" descr=""/>
            <p:cNvPicPr/>
            <p:nvPr/>
          </p:nvPicPr>
          <p:blipFill>
            <a:blip r:embed="rId8"/>
            <a:stretch/>
          </p:blipFill>
          <p:spPr>
            <a:xfrm>
              <a:off x="858960" y="445608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1" name=""/>
            <p:cNvSpPr/>
            <p:nvPr/>
          </p:nvSpPr>
          <p:spPr>
            <a:xfrm rot="10800000">
              <a:off x="942840" y="451296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2" name="TextBox 9" descr=""/>
          <p:cNvPicPr/>
          <p:nvPr/>
        </p:nvPicPr>
        <p:blipFill>
          <a:blip r:embed="rId1"/>
          <a:stretch/>
        </p:blipFill>
        <p:spPr>
          <a:xfrm>
            <a:off x="6029280" y="506520"/>
            <a:ext cx="2870280" cy="590400"/>
          </a:xfrm>
          <a:prstGeom prst="rect">
            <a:avLst/>
          </a:prstGeom>
          <a:ln w="0">
            <a:noFill/>
          </a:ln>
        </p:spPr>
      </p:pic>
      <p:sp>
        <p:nvSpPr>
          <p:cNvPr id="843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560CE-E3D9-4790-BAFC-94C646505890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4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45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46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표준화 검사의 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7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4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5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5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53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4" name="그룹 43"/>
          <p:cNvGrpSpPr/>
          <p:nvPr/>
        </p:nvGrpSpPr>
        <p:grpSpPr>
          <a:xfrm>
            <a:off x="571680" y="1876320"/>
            <a:ext cx="8072280" cy="3838680"/>
            <a:chOff x="571680" y="1876320"/>
            <a:chExt cx="8072280" cy="3838680"/>
          </a:xfrm>
        </p:grpSpPr>
        <p:pic>
          <p:nvPicPr>
            <p:cNvPr id="855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3838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56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857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8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9" name="직사각형 19"/>
            <p:cNvSpPr/>
            <p:nvPr/>
          </p:nvSpPr>
          <p:spPr>
            <a:xfrm>
              <a:off x="928800" y="19918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취도 검사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들의 특정한 내용 영역에서 얼마나 많이 배웠는지 측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0" name="직사각형 16"/>
          <p:cNvSpPr/>
          <p:nvPr/>
        </p:nvSpPr>
        <p:spPr>
          <a:xfrm>
            <a:off x="928800" y="2778120"/>
            <a:ext cx="7786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진단검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정한 기능영역에서 학생들의 장점과 단점을 상세히 설명해 주는 검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1" name="타원 20"/>
          <p:cNvGrpSpPr/>
          <p:nvPr/>
        </p:nvGrpSpPr>
        <p:grpSpPr>
          <a:xfrm>
            <a:off x="835200" y="2938320"/>
            <a:ext cx="225360" cy="225720"/>
            <a:chOff x="835200" y="2938320"/>
            <a:chExt cx="225360" cy="225720"/>
          </a:xfrm>
        </p:grpSpPr>
        <p:pic>
          <p:nvPicPr>
            <p:cNvPr id="862" name="타원 20" descr=""/>
            <p:cNvPicPr/>
            <p:nvPr/>
          </p:nvPicPr>
          <p:blipFill>
            <a:blip r:embed="rId5"/>
            <a:stretch/>
          </p:blipFill>
          <p:spPr>
            <a:xfrm>
              <a:off x="835200" y="2938320"/>
              <a:ext cx="22536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3" name=""/>
            <p:cNvSpPr/>
            <p:nvPr/>
          </p:nvSpPr>
          <p:spPr>
            <a:xfrm rot="10800000">
              <a:off x="915840" y="299376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4" name="직사각형 21"/>
          <p:cNvSpPr/>
          <p:nvPr/>
        </p:nvSpPr>
        <p:spPr>
          <a:xfrm>
            <a:off x="928800" y="4576680"/>
            <a:ext cx="76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적성검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을 위한 잠재력을 예측하며 오랜 시간에 걸쳐 개발된 일반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능력을 측정하는 검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타원 22"/>
          <p:cNvGrpSpPr/>
          <p:nvPr/>
        </p:nvGrpSpPr>
        <p:grpSpPr>
          <a:xfrm>
            <a:off x="858960" y="4743360"/>
            <a:ext cx="226800" cy="225360"/>
            <a:chOff x="858960" y="4743360"/>
            <a:chExt cx="226800" cy="225360"/>
          </a:xfrm>
        </p:grpSpPr>
        <p:pic>
          <p:nvPicPr>
            <p:cNvPr id="866" name="타원 22" descr=""/>
            <p:cNvPicPr/>
            <p:nvPr/>
          </p:nvPicPr>
          <p:blipFill>
            <a:blip r:embed="rId6"/>
            <a:stretch/>
          </p:blipFill>
          <p:spPr>
            <a:xfrm>
              <a:off x="858960" y="474336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7" name=""/>
            <p:cNvSpPr/>
            <p:nvPr/>
          </p:nvSpPr>
          <p:spPr>
            <a:xfrm rot="10800000">
              <a:off x="942840" y="4799160"/>
              <a:ext cx="69840" cy="6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8" name="직사각형 23"/>
          <p:cNvSpPr/>
          <p:nvPr/>
        </p:nvSpPr>
        <p:spPr>
          <a:xfrm>
            <a:off x="928800" y="3505320"/>
            <a:ext cx="76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지능검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지식을 습득할 수 있는 개인의 능력과 추상적인 것을 사고하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추론하는 능력과 새로운 문제를 해결할 수 있는 능력을 측정하는 검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9" name="타원 25"/>
          <p:cNvGrpSpPr/>
          <p:nvPr/>
        </p:nvGrpSpPr>
        <p:grpSpPr>
          <a:xfrm>
            <a:off x="835200" y="3724200"/>
            <a:ext cx="225360" cy="225360"/>
            <a:chOff x="835200" y="3724200"/>
            <a:chExt cx="225360" cy="225360"/>
          </a:xfrm>
        </p:grpSpPr>
        <p:pic>
          <p:nvPicPr>
            <p:cNvPr id="870" name="타원 25" descr=""/>
            <p:cNvPicPr/>
            <p:nvPr/>
          </p:nvPicPr>
          <p:blipFill>
            <a:blip r:embed="rId7"/>
            <a:stretch/>
          </p:blipFill>
          <p:spPr>
            <a:xfrm>
              <a:off x="835200" y="372420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1" name=""/>
            <p:cNvSpPr/>
            <p:nvPr/>
          </p:nvSpPr>
          <p:spPr>
            <a:xfrm rot="10800000">
              <a:off x="915840" y="3780000"/>
              <a:ext cx="69840" cy="6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2" name="TextBox 9" descr=""/>
          <p:cNvPicPr/>
          <p:nvPr/>
        </p:nvPicPr>
        <p:blipFill>
          <a:blip r:embed="rId1"/>
          <a:stretch/>
        </p:blipFill>
        <p:spPr>
          <a:xfrm>
            <a:off x="6029280" y="506520"/>
            <a:ext cx="2870280" cy="590400"/>
          </a:xfrm>
          <a:prstGeom prst="rect">
            <a:avLst/>
          </a:prstGeom>
          <a:ln w="0">
            <a:noFill/>
          </a:ln>
        </p:spPr>
      </p:pic>
      <p:sp>
        <p:nvSpPr>
          <p:cNvPr id="873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173E5-33AD-417F-81B7-5BA0A6FDCE17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4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75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76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표준화 검사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7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8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8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8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83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4" name="그룹 43"/>
          <p:cNvGrpSpPr/>
          <p:nvPr/>
        </p:nvGrpSpPr>
        <p:grpSpPr>
          <a:xfrm>
            <a:off x="571680" y="1876320"/>
            <a:ext cx="8072280" cy="4981680"/>
            <a:chOff x="571680" y="1876320"/>
            <a:chExt cx="8072280" cy="4981680"/>
          </a:xfrm>
        </p:grpSpPr>
        <p:pic>
          <p:nvPicPr>
            <p:cNvPr id="885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98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86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887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8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9" name="직사각형 19"/>
            <p:cNvSpPr/>
            <p:nvPr/>
          </p:nvSpPr>
          <p:spPr>
            <a:xfrm>
              <a:off x="928800" y="1991880"/>
              <a:ext cx="7669080" cy="13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내용타당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가르쳐진 내용을 대표할 수 있는 문항으로 구성되었는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자가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그 내용을 얼마나 이해하고 있는지를 측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시험 내용과 교과과정의 목표를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비교해서 결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0" name="직사각형 16"/>
          <p:cNvSpPr/>
          <p:nvPr/>
        </p:nvSpPr>
        <p:spPr>
          <a:xfrm>
            <a:off x="928800" y="3429000"/>
            <a:ext cx="7786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예언타당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미래의 수행을 측정하는 검사의 능력에 대한 지표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예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준화검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점수와 성적간의 상관관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직사각형 21"/>
          <p:cNvSpPr/>
          <p:nvPr/>
        </p:nvSpPr>
        <p:spPr>
          <a:xfrm>
            <a:off x="928800" y="4446720"/>
            <a:ext cx="766908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구성타당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시험과 그 시험이 측정하려는 것 사이의 논리적 연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예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학능력시험의 문제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.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단어와 수에 대해 추상적인 사고를 할 수 있는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능력을 측정으로 이상의 것들을 대학에서 다뤄야 할 과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2" name="타원 22"/>
          <p:cNvGrpSpPr/>
          <p:nvPr/>
        </p:nvGrpSpPr>
        <p:grpSpPr>
          <a:xfrm>
            <a:off x="858960" y="4651200"/>
            <a:ext cx="226800" cy="219240"/>
            <a:chOff x="858960" y="4651200"/>
            <a:chExt cx="226800" cy="219240"/>
          </a:xfrm>
        </p:grpSpPr>
        <p:pic>
          <p:nvPicPr>
            <p:cNvPr id="893" name="타원 22" descr=""/>
            <p:cNvPicPr/>
            <p:nvPr/>
          </p:nvPicPr>
          <p:blipFill>
            <a:blip r:embed="rId5"/>
            <a:stretch/>
          </p:blipFill>
          <p:spPr>
            <a:xfrm>
              <a:off x="858960" y="4651200"/>
              <a:ext cx="226800" cy="21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4" name=""/>
            <p:cNvSpPr/>
            <p:nvPr/>
          </p:nvSpPr>
          <p:spPr>
            <a:xfrm rot="10800000">
              <a:off x="942840" y="470808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5" name="타원 25"/>
          <p:cNvGrpSpPr/>
          <p:nvPr/>
        </p:nvGrpSpPr>
        <p:grpSpPr>
          <a:xfrm>
            <a:off x="835200" y="3602160"/>
            <a:ext cx="225360" cy="226800"/>
            <a:chOff x="835200" y="3602160"/>
            <a:chExt cx="225360" cy="226800"/>
          </a:xfrm>
        </p:grpSpPr>
        <p:pic>
          <p:nvPicPr>
            <p:cNvPr id="896" name="타원 25" descr=""/>
            <p:cNvPicPr/>
            <p:nvPr/>
          </p:nvPicPr>
          <p:blipFill>
            <a:blip r:embed="rId6"/>
            <a:stretch/>
          </p:blipFill>
          <p:spPr>
            <a:xfrm>
              <a:off x="835200" y="3602160"/>
              <a:ext cx="225360" cy="22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7" name=""/>
            <p:cNvSpPr/>
            <p:nvPr/>
          </p:nvSpPr>
          <p:spPr>
            <a:xfrm rot="10800000">
              <a:off x="915840" y="3656160"/>
              <a:ext cx="69840" cy="6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8" name="직사각형 20"/>
          <p:cNvSpPr/>
          <p:nvPr/>
        </p:nvSpPr>
        <p:spPr>
          <a:xfrm>
            <a:off x="928800" y="6005520"/>
            <a:ext cx="7786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**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타당도와 신뢰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9" name="TextBox 9" descr=""/>
          <p:cNvPicPr/>
          <p:nvPr/>
        </p:nvPicPr>
        <p:blipFill>
          <a:blip r:embed="rId1"/>
          <a:stretch/>
        </p:blipFill>
        <p:spPr>
          <a:xfrm>
            <a:off x="6029280" y="506520"/>
            <a:ext cx="2870280" cy="590400"/>
          </a:xfrm>
          <a:prstGeom prst="rect">
            <a:avLst/>
          </a:prstGeom>
          <a:ln w="0">
            <a:noFill/>
          </a:ln>
        </p:spPr>
      </p:pic>
      <p:sp>
        <p:nvSpPr>
          <p:cNvPr id="900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808E2-7679-488C-B161-90FD533417EA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1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902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903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교사의 역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0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0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08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0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10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5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1" name="그룹 43"/>
          <p:cNvGrpSpPr/>
          <p:nvPr/>
        </p:nvGrpSpPr>
        <p:grpSpPr>
          <a:xfrm>
            <a:off x="571680" y="1876320"/>
            <a:ext cx="8072280" cy="4981680"/>
            <a:chOff x="571680" y="1876320"/>
            <a:chExt cx="8072280" cy="4981680"/>
          </a:xfrm>
        </p:grpSpPr>
        <p:pic>
          <p:nvPicPr>
            <p:cNvPr id="912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98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913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914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15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16" name="직사각형 19"/>
            <p:cNvSpPr/>
            <p:nvPr/>
          </p:nvSpPr>
          <p:spPr>
            <a:xfrm>
              <a:off x="928800" y="19918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표준화 검사 점수가 타당한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들이 배운 것을 정확히 반영하는지 확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7" name="직사각형 16"/>
          <p:cNvSpPr/>
          <p:nvPr/>
        </p:nvSpPr>
        <p:spPr>
          <a:xfrm>
            <a:off x="928800" y="2714760"/>
            <a:ext cx="7786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검사 결과를 학생과 부모에게 전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직사각형 21"/>
          <p:cNvSpPr/>
          <p:nvPr/>
        </p:nvSpPr>
        <p:spPr>
          <a:xfrm>
            <a:off x="928800" y="335772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시험 결과를 바탕으로 자신의 교수법에 변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9" name="타원 22"/>
          <p:cNvGrpSpPr/>
          <p:nvPr/>
        </p:nvGrpSpPr>
        <p:grpSpPr>
          <a:xfrm>
            <a:off x="858960" y="3529080"/>
            <a:ext cx="226800" cy="225360"/>
            <a:chOff x="858960" y="3529080"/>
            <a:chExt cx="226800" cy="225360"/>
          </a:xfrm>
        </p:grpSpPr>
        <p:pic>
          <p:nvPicPr>
            <p:cNvPr id="920" name="타원 22" descr=""/>
            <p:cNvPicPr/>
            <p:nvPr/>
          </p:nvPicPr>
          <p:blipFill>
            <a:blip r:embed="rId5"/>
            <a:stretch/>
          </p:blipFill>
          <p:spPr>
            <a:xfrm>
              <a:off x="858960" y="352908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1" name=""/>
            <p:cNvSpPr/>
            <p:nvPr/>
          </p:nvSpPr>
          <p:spPr>
            <a:xfrm rot="10800000">
              <a:off x="942840" y="358416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2" name="타원 25"/>
          <p:cNvGrpSpPr/>
          <p:nvPr/>
        </p:nvGrpSpPr>
        <p:grpSpPr>
          <a:xfrm>
            <a:off x="835200" y="2882880"/>
            <a:ext cx="225360" cy="231840"/>
            <a:chOff x="835200" y="2882880"/>
            <a:chExt cx="225360" cy="231840"/>
          </a:xfrm>
        </p:grpSpPr>
        <p:pic>
          <p:nvPicPr>
            <p:cNvPr id="923" name="타원 25" descr=""/>
            <p:cNvPicPr/>
            <p:nvPr/>
          </p:nvPicPr>
          <p:blipFill>
            <a:blip r:embed="rId6"/>
            <a:stretch/>
          </p:blipFill>
          <p:spPr>
            <a:xfrm>
              <a:off x="835200" y="288288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4" name=""/>
            <p:cNvSpPr/>
            <p:nvPr/>
          </p:nvSpPr>
          <p:spPr>
            <a:xfrm rot="10800000">
              <a:off x="915840" y="294120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5" name="직사각형 23"/>
          <p:cNvSpPr/>
          <p:nvPr/>
        </p:nvSpPr>
        <p:spPr>
          <a:xfrm>
            <a:off x="928800" y="3890880"/>
            <a:ext cx="7669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&lt;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수 전략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15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검사 선택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검사내용이 수업 내용과 일치하는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생들에게 배울 수 있는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회를 제공하는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적절한 규준집단을 가지고 있는지 확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15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생 준비시키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15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검사 실시하기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항상 동일하게 실시하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15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검사결과 해석하기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“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생 및 학부모와 공유하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6" name="TextBox 9" descr=""/>
          <p:cNvPicPr/>
          <p:nvPr/>
        </p:nvPicPr>
        <p:blipFill>
          <a:blip r:embed="rId1"/>
          <a:stretch/>
        </p:blipFill>
        <p:spPr>
          <a:xfrm>
            <a:off x="3297240" y="506520"/>
            <a:ext cx="5597640" cy="590400"/>
          </a:xfrm>
          <a:prstGeom prst="rect">
            <a:avLst/>
          </a:prstGeom>
          <a:ln w="0">
            <a:noFill/>
          </a:ln>
        </p:spPr>
      </p:pic>
      <p:sp>
        <p:nvSpPr>
          <p:cNvPr id="927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E84C3-62AE-496D-B039-DF27CDE42D17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8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929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930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기술 통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1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3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3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3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3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37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8" name="그룹 43"/>
          <p:cNvGrpSpPr/>
          <p:nvPr/>
        </p:nvGrpSpPr>
        <p:grpSpPr>
          <a:xfrm>
            <a:off x="571680" y="1876320"/>
            <a:ext cx="8072280" cy="4981680"/>
            <a:chOff x="571680" y="1876320"/>
            <a:chExt cx="8072280" cy="4981680"/>
          </a:xfrm>
        </p:grpSpPr>
        <p:pic>
          <p:nvPicPr>
            <p:cNvPr id="939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98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940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941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42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43" name="직사각형 19"/>
            <p:cNvSpPr/>
            <p:nvPr/>
          </p:nvSpPr>
          <p:spPr>
            <a:xfrm>
              <a:off x="928800" y="19918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빈도분석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몇 명 인지 점수의 분포를 보여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4" name="직사각형 16"/>
          <p:cNvSpPr/>
          <p:nvPr/>
        </p:nvSpPr>
        <p:spPr>
          <a:xfrm>
            <a:off x="928800" y="2571840"/>
            <a:ext cx="7786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집중 경향치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한 집단의 전체적인 수행을 양적으로 기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평균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중앙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빈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5" name="타원 25"/>
          <p:cNvGrpSpPr/>
          <p:nvPr/>
        </p:nvGrpSpPr>
        <p:grpSpPr>
          <a:xfrm>
            <a:off x="835200" y="2743200"/>
            <a:ext cx="225360" cy="225360"/>
            <a:chOff x="835200" y="2743200"/>
            <a:chExt cx="225360" cy="225360"/>
          </a:xfrm>
        </p:grpSpPr>
        <p:pic>
          <p:nvPicPr>
            <p:cNvPr id="946" name="타원 25" descr=""/>
            <p:cNvPicPr/>
            <p:nvPr/>
          </p:nvPicPr>
          <p:blipFill>
            <a:blip r:embed="rId5"/>
            <a:stretch/>
          </p:blipFill>
          <p:spPr>
            <a:xfrm>
              <a:off x="835200" y="274320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7" name=""/>
            <p:cNvSpPr/>
            <p:nvPr/>
          </p:nvSpPr>
          <p:spPr>
            <a:xfrm rot="10800000">
              <a:off x="915840" y="279828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8" name="직사각형 20"/>
          <p:cNvSpPr/>
          <p:nvPr/>
        </p:nvSpPr>
        <p:spPr>
          <a:xfrm>
            <a:off x="928800" y="4357800"/>
            <a:ext cx="778644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변산도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점수들이 얼마나 퍼져 있는지 기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준편차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vs.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분산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9" name="타원 24"/>
          <p:cNvGrpSpPr/>
          <p:nvPr/>
        </p:nvGrpSpPr>
        <p:grpSpPr>
          <a:xfrm>
            <a:off x="858960" y="4529160"/>
            <a:ext cx="226800" cy="225360"/>
            <a:chOff x="858960" y="4529160"/>
            <a:chExt cx="226800" cy="225360"/>
          </a:xfrm>
        </p:grpSpPr>
        <p:pic>
          <p:nvPicPr>
            <p:cNvPr id="950" name="타원 24" descr=""/>
            <p:cNvPicPr/>
            <p:nvPr/>
          </p:nvPicPr>
          <p:blipFill>
            <a:blip r:embed="rId6"/>
            <a:stretch/>
          </p:blipFill>
          <p:spPr>
            <a:xfrm>
              <a:off x="858960" y="452916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1" name=""/>
            <p:cNvSpPr/>
            <p:nvPr/>
          </p:nvSpPr>
          <p:spPr>
            <a:xfrm rot="10800000">
              <a:off x="942840" y="458424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2" name="직사각형 26"/>
          <p:cNvSpPr/>
          <p:nvPr/>
        </p:nvSpPr>
        <p:spPr>
          <a:xfrm>
            <a:off x="928800" y="5786280"/>
            <a:ext cx="7786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상분포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평균값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=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중앙치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=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빈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좌우 대칭의 종 모양의 분포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3" name="타원 27"/>
          <p:cNvGrpSpPr/>
          <p:nvPr/>
        </p:nvGrpSpPr>
        <p:grpSpPr>
          <a:xfrm>
            <a:off x="858960" y="5937120"/>
            <a:ext cx="226800" cy="225720"/>
            <a:chOff x="858960" y="5937120"/>
            <a:chExt cx="226800" cy="225720"/>
          </a:xfrm>
        </p:grpSpPr>
        <p:pic>
          <p:nvPicPr>
            <p:cNvPr id="954" name="타원 27" descr=""/>
            <p:cNvPicPr/>
            <p:nvPr/>
          </p:nvPicPr>
          <p:blipFill>
            <a:blip r:embed="rId7"/>
            <a:stretch/>
          </p:blipFill>
          <p:spPr>
            <a:xfrm>
              <a:off x="858960" y="5937120"/>
              <a:ext cx="22680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5" name=""/>
            <p:cNvSpPr/>
            <p:nvPr/>
          </p:nvSpPr>
          <p:spPr>
            <a:xfrm rot="10800000">
              <a:off x="942840" y="599400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6" name="TextBox 9" descr=""/>
          <p:cNvPicPr/>
          <p:nvPr/>
        </p:nvPicPr>
        <p:blipFill>
          <a:blip r:embed="rId1"/>
          <a:stretch/>
        </p:blipFill>
        <p:spPr>
          <a:xfrm>
            <a:off x="3297240" y="506520"/>
            <a:ext cx="5597640" cy="590400"/>
          </a:xfrm>
          <a:prstGeom prst="rect">
            <a:avLst/>
          </a:prstGeom>
          <a:ln w="0">
            <a:noFill/>
          </a:ln>
        </p:spPr>
      </p:pic>
      <p:sp>
        <p:nvSpPr>
          <p:cNvPr id="957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A6EBE-BCCB-4125-B758-B9D3E29C4DEE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8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959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960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이해 및 해석잏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1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6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6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6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6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67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8" name="그룹 43"/>
          <p:cNvGrpSpPr/>
          <p:nvPr/>
        </p:nvGrpSpPr>
        <p:grpSpPr>
          <a:xfrm>
            <a:off x="571680" y="1876320"/>
            <a:ext cx="8072280" cy="4981680"/>
            <a:chOff x="571680" y="1876320"/>
            <a:chExt cx="8072280" cy="4981680"/>
          </a:xfrm>
        </p:grpSpPr>
        <p:pic>
          <p:nvPicPr>
            <p:cNvPr id="969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98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970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971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72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73" name="직사각형 19"/>
            <p:cNvSpPr/>
            <p:nvPr/>
          </p:nvSpPr>
          <p:spPr>
            <a:xfrm>
              <a:off x="928800" y="19918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목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서로 다른 학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역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나라에 살고 있는 학생들과 비교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4" name="직사각형 16"/>
          <p:cNvSpPr/>
          <p:nvPr/>
        </p:nvSpPr>
        <p:spPr>
          <a:xfrm>
            <a:off x="928800" y="2571840"/>
            <a:ext cx="7786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원점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개인이 표준화 검사 혹은 그 하위 검사에서 정확하게 반응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5" name="타원 25"/>
          <p:cNvGrpSpPr/>
          <p:nvPr/>
        </p:nvGrpSpPr>
        <p:grpSpPr>
          <a:xfrm>
            <a:off x="835200" y="2743200"/>
            <a:ext cx="225360" cy="225360"/>
            <a:chOff x="835200" y="2743200"/>
            <a:chExt cx="225360" cy="225360"/>
          </a:xfrm>
        </p:grpSpPr>
        <p:pic>
          <p:nvPicPr>
            <p:cNvPr id="976" name="타원 25" descr=""/>
            <p:cNvPicPr/>
            <p:nvPr/>
          </p:nvPicPr>
          <p:blipFill>
            <a:blip r:embed="rId5"/>
            <a:stretch/>
          </p:blipFill>
          <p:spPr>
            <a:xfrm>
              <a:off x="835200" y="274320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7" name=""/>
            <p:cNvSpPr/>
            <p:nvPr/>
          </p:nvSpPr>
          <p:spPr>
            <a:xfrm rot="10800000">
              <a:off x="915840" y="279828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8" name="직사각형 20"/>
          <p:cNvSpPr/>
          <p:nvPr/>
        </p:nvSpPr>
        <p:spPr>
          <a:xfrm>
            <a:off x="928800" y="3143160"/>
            <a:ext cx="7786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백분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개인의 검수를 다른 모든 학생들의 점수와 비교하여 나온 등위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9" name="타원 24"/>
          <p:cNvGrpSpPr/>
          <p:nvPr/>
        </p:nvGrpSpPr>
        <p:grpSpPr>
          <a:xfrm>
            <a:off x="858960" y="3316320"/>
            <a:ext cx="226800" cy="225360"/>
            <a:chOff x="858960" y="3316320"/>
            <a:chExt cx="226800" cy="225360"/>
          </a:xfrm>
        </p:grpSpPr>
        <p:pic>
          <p:nvPicPr>
            <p:cNvPr id="980" name="타원 24" descr=""/>
            <p:cNvPicPr/>
            <p:nvPr/>
          </p:nvPicPr>
          <p:blipFill>
            <a:blip r:embed="rId6"/>
            <a:stretch/>
          </p:blipFill>
          <p:spPr>
            <a:xfrm>
              <a:off x="858960" y="331632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1" name=""/>
            <p:cNvSpPr/>
            <p:nvPr/>
          </p:nvSpPr>
          <p:spPr>
            <a:xfrm rot="10800000">
              <a:off x="942840" y="336996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2" name="직사각형 21"/>
          <p:cNvSpPr/>
          <p:nvPr/>
        </p:nvSpPr>
        <p:spPr>
          <a:xfrm>
            <a:off x="928800" y="3676680"/>
            <a:ext cx="778644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준점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준화 점수에서 학생이 얼마나 잘했는지 표준편차를 기본단위로 해서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술한 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Z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점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평균값으로부터 몇 표준편차 만큼 떨어져 있는지에 관한 점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3" name="타원 22"/>
          <p:cNvGrpSpPr/>
          <p:nvPr/>
        </p:nvGrpSpPr>
        <p:grpSpPr>
          <a:xfrm>
            <a:off x="858960" y="3816360"/>
            <a:ext cx="226800" cy="225360"/>
            <a:chOff x="858960" y="3816360"/>
            <a:chExt cx="226800" cy="225360"/>
          </a:xfrm>
        </p:grpSpPr>
        <p:pic>
          <p:nvPicPr>
            <p:cNvPr id="984" name="타원 22" descr=""/>
            <p:cNvPicPr/>
            <p:nvPr/>
          </p:nvPicPr>
          <p:blipFill>
            <a:blip r:embed="rId7"/>
            <a:stretch/>
          </p:blipFill>
          <p:spPr>
            <a:xfrm>
              <a:off x="858960" y="381636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5" name=""/>
            <p:cNvSpPr/>
            <p:nvPr/>
          </p:nvSpPr>
          <p:spPr>
            <a:xfrm rot="10800000">
              <a:off x="942840" y="387000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6" name="TextBox 9" descr=""/>
          <p:cNvPicPr/>
          <p:nvPr/>
        </p:nvPicPr>
        <p:blipFill>
          <a:blip r:embed="rId1"/>
          <a:stretch/>
        </p:blipFill>
        <p:spPr>
          <a:xfrm>
            <a:off x="4730760" y="506520"/>
            <a:ext cx="4168800" cy="590400"/>
          </a:xfrm>
          <a:prstGeom prst="rect">
            <a:avLst/>
          </a:prstGeom>
          <a:ln w="0">
            <a:noFill/>
          </a:ln>
        </p:spPr>
      </p:pic>
      <p:sp>
        <p:nvSpPr>
          <p:cNvPr id="987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FEB25-C465-49A5-B736-81F38CBFEF99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8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989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990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쟁점 사항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9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9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9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9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97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8" name="그룹 43"/>
          <p:cNvGrpSpPr/>
          <p:nvPr/>
        </p:nvGrpSpPr>
        <p:grpSpPr>
          <a:xfrm>
            <a:off x="571680" y="1876320"/>
            <a:ext cx="8072280" cy="4981680"/>
            <a:chOff x="571680" y="1876320"/>
            <a:chExt cx="8072280" cy="4981680"/>
          </a:xfrm>
        </p:grpSpPr>
        <p:pic>
          <p:nvPicPr>
            <p:cNvPr id="999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98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00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1001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2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03" name="직사각형 19"/>
            <p:cNvSpPr/>
            <p:nvPr/>
          </p:nvSpPr>
          <p:spPr>
            <a:xfrm>
              <a:off x="928800" y="1991880"/>
              <a:ext cx="7669080" cy="13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의 다양성과 검사의 편파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검사 내용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절차 및 사용의 편파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4" name="타원 25"/>
          <p:cNvGrpSpPr/>
          <p:nvPr/>
        </p:nvGrpSpPr>
        <p:grpSpPr>
          <a:xfrm>
            <a:off x="835200" y="3078000"/>
            <a:ext cx="225360" cy="225720"/>
            <a:chOff x="835200" y="3078000"/>
            <a:chExt cx="225360" cy="225720"/>
          </a:xfrm>
        </p:grpSpPr>
        <p:pic>
          <p:nvPicPr>
            <p:cNvPr id="1005" name="타원 25" descr=""/>
            <p:cNvPicPr/>
            <p:nvPr/>
          </p:nvPicPr>
          <p:blipFill>
            <a:blip r:embed="rId5"/>
            <a:stretch/>
          </p:blipFill>
          <p:spPr>
            <a:xfrm>
              <a:off x="835200" y="3078000"/>
              <a:ext cx="22536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6" name=""/>
            <p:cNvSpPr/>
            <p:nvPr/>
          </p:nvSpPr>
          <p:spPr>
            <a:xfrm rot="10800000">
              <a:off x="915840" y="3137040"/>
              <a:ext cx="69840" cy="6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7" name="직사각형 21"/>
          <p:cNvSpPr/>
          <p:nvPr/>
        </p:nvSpPr>
        <p:spPr>
          <a:xfrm>
            <a:off x="928800" y="2928960"/>
            <a:ext cx="778644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대안적인 평가를 고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급 관찰 및 기타 사항을 고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목표와 기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미리 정한 교육목표 측정에 대한 동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시간이 많이 걸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타당도의 문제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9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1-03T23:57:37Z</dcterms:modified>
  <cp:revision>375</cp:revision>
  <dc:subject/>
  <dc:title>PowerPoint Template</dc:title>
</cp:coreProperties>
</file>